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2F9-ABBD-4ABE-8F7A-9AB03931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416-EF78-4356-BBA0-6F7989D9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69B-9C9D-41A9-BCFC-AF65B645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514-EFFD-4D06-AABC-3AE82A46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2B6-FF6D-45E8-A828-429A45A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2A2-AF20-4AC3-94E2-2C96310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11C-B93A-42BF-B87A-C88B53A5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2EE-91F6-406F-A1DD-A1233B8A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D43-E365-4D5A-B83C-C534E3E9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838-42D9-40B2-BF0E-A1A804D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B62-497F-4572-9A10-7937841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A49-D102-4D08-9189-BAE71A3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E80-870E-4912-938E-0F4C6D5A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The Riversid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Question Did You Expl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ked: How is it possible for a paperclip to magnetically attach itself to another paper clip, when the second paperclip is attached to a mag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Conduct Your Expl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arched magnetism’s effect on paperclips. We opened a webpage on the Internet and found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You Fi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und that in metals, some electrons are loose. When these electrons are placed near a magnet, the electrons line up. This turns the metal into a magnet, which is magnetically attached to the other papercl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1:07:50Z</dcterms:created>
  <dc:creator> </dc:creator>
  <dc:description/>
  <dc:language>en-US</dc:language>
  <cp:lastModifiedBy> </cp:lastModifiedBy>
  <dcterms:modified xsi:type="dcterms:W3CDTF">2010-03-15T11:16:22Z</dcterms:modified>
  <cp:revision>3</cp:revision>
  <dc:subject/>
  <dc:title>Magnetism</dc:title>
</cp:coreProperties>
</file>